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A48C-309A-48D9-BE69-2FA1BF9A0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B9F5-2294-46B1-8702-751A9E27B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42D4-C6F2-40B3-981A-250264C27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860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584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272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53A5-A18A-4443-BE37-6C4A5D175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24B02-18DB-483F-A2E2-2D9C1D7EC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7528D-E9D6-42F0-B64E-499A639F6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58A3D-890C-4922-8C5D-6137A2EE1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86201-ADFE-41BB-BE52-021DA9B3E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1133F-2F4A-4B8B-93D2-FEDE78A85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7AF4B-B311-44BB-B0F4-4597C40D4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9E3D3-09DA-423E-8777-F92CD415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31B0-0DB0-4704-B750-4E4547DFB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DE7DD-A8C0-4962-B814-E190DD7D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B2200-F8A0-40A6-88D4-31F31FCA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6BEDA-9D35-48B0-A1F9-6BB145482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F463C-3D0B-41E9-930E-10FB6AB3F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6584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0272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860BB-34F1-4561-A6AF-AADEE7726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94C9-DDCD-41F1-8176-757D78DA0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0E26-9505-4731-B339-D9A730A69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C852-B27B-46D8-B8C5-6DB6C5055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2532-7611-4836-9532-3910F04B6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B014-1663-45CF-B236-5DAC7CD8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CE22-C2DC-41AA-BBFA-EA8CBB4D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6A9D-30B0-4930-80D6-76237840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16" b="1937"/>
          <a:stretch/>
        </p:blipFill>
        <p:spPr>
          <a:xfrm>
            <a:off x="0" y="0"/>
            <a:ext cx="9144000" cy="1130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Unicode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EBB6C-F373-4792-9B73-24BBA7ABE54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DFD4E-9FB2-4A94-8F7F-3E4F8613CC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13040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-31" t="0" r="416" b="1937"/>
          <a:stretch/>
        </p:blipFill>
        <p:spPr>
          <a:xfrm>
            <a:off x="-3240" y="2895480"/>
            <a:ext cx="9147240" cy="113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Unicode MS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6C299-9B01-456C-8DBA-EA140C99238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20289-C076-48C1-B4E2-2C04B16E95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02588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743200"/>
            <a:ext cx="9142560" cy="15228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 Unicode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 Unicode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 Unicode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zigma.ktk.pte.hu/index.php?option=com_frontpage&amp;Itemid=1" TargetMode="External"/><Relationship Id="rId2" Type="http://schemas.openxmlformats.org/officeDocument/2006/relationships/hyperlink" Target="http://epa.oszk.hu/html/vgi/kardexlap.phtml?id=1285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epa.oszk.hu/html/vgi/kardexlap.phtml?id=1285" TargetMode="External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kademiai.com/content/119704/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kszemle.hu/tartalom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kszemle.hu/tartalom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www.kszemle.hu/tartalom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6933960" cy="25146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66"/>
                </a:solidFill>
                <a:latin typeface="Arial Unicode MS"/>
              </a:rPr>
              <a:t>SZAKMAI FOLYÓIRATOK</a:t>
            </a:r>
            <a:endParaRPr b="0" lang="en-US" sz="4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3960C-74E3-4193-B4BD-A6B250C9C56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83A8A6C-87BC-47FA-A275-5C50134DC0B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59787"/>
                </a:solidFill>
                <a:latin typeface="Arial Unicode MS"/>
              </a:rPr>
              <a:t>SZIGMA</a:t>
            </a:r>
            <a:r>
              <a:rPr b="1" lang="en-US" sz="3600" spc="-1" strike="noStrike">
                <a:solidFill>
                  <a:srgbClr val="006666"/>
                </a:solidFill>
                <a:latin typeface="Arial Unicode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81080" y="1447560"/>
            <a:ext cx="6934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b48f"/>
                </a:solidFill>
                <a:latin typeface="Arial Unicode MS"/>
              </a:rPr>
              <a:t>Közreadó: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 PTE Közgazdaságtudományi Kar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b48f"/>
                </a:solidFill>
                <a:latin typeface="Arial Unicode MS"/>
              </a:rPr>
              <a:t>A folyóirat  profilja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közgazdaságtani és vállalat-gazdaságtani folyamatok törvényszerűségei és e jelenségek közötti összefüggések 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kvantitatív módszereket is alkalmazó, gazdaságtudományi kutatások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b48f"/>
                </a:solidFill>
                <a:latin typeface="Arial Unicode MS"/>
              </a:rPr>
              <a:t>Nyelv: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 magyar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b48f"/>
                </a:solidFill>
                <a:latin typeface="Arial Unicode MS"/>
              </a:rPr>
              <a:t>Alapítás éve: 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1970. (évente 4 szám)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b48f"/>
                </a:solidFill>
                <a:latin typeface="Arial Unicode MS"/>
              </a:rPr>
              <a:t>Online elérhetőség: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 Unicode MS"/>
                <a:hlinkClick r:id="rId1"/>
              </a:rPr>
              <a:t>http://www.szigma.ktk.pte.hu/index.php?option=com_frontpage&amp;Itemid=1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13" name="" descr="A h�l�zatos verzi� megnyit�sa &#13;Open the online vers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762120"/>
            <a:ext cx="1424160" cy="17524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A h�l�zatos verzi� megnyit�sa &#13;Open the online version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1238400" cy="1523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A h�l�zatos verzi� megnyit�sa &#13;Open the online version"/>
          <p:cNvPicPr/>
          <p:nvPr/>
        </p:nvPicPr>
        <p:blipFill>
          <a:blip r:embed="rId6"/>
          <a:stretch/>
        </p:blipFill>
        <p:spPr>
          <a:xfrm>
            <a:off x="533520" y="2743200"/>
            <a:ext cx="1423800" cy="1752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A h�l�zatos verzi� megnyit�sa &#13;Open the online version"/>
          <p:cNvPicPr/>
          <p:nvPr/>
        </p:nvPicPr>
        <p:blipFill>
          <a:blip r:embed="rId7"/>
          <a:stretch/>
        </p:blipFill>
        <p:spPr>
          <a:xfrm>
            <a:off x="0" y="3657600"/>
            <a:ext cx="1424160" cy="17524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A h�l�zatos verzi� megnyit�sa &#13;Open the online version"/>
          <p:cNvPicPr/>
          <p:nvPr/>
        </p:nvPicPr>
        <p:blipFill>
          <a:blip r:embed="rId8"/>
          <a:stretch/>
        </p:blipFill>
        <p:spPr>
          <a:xfrm>
            <a:off x="457200" y="4876920"/>
            <a:ext cx="1424160" cy="175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E656-E1CE-4FB0-8F92-141E8321DB4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EB2142-48EB-479A-9D54-7B87C8E0546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 Unicode MS"/>
              </a:rPr>
              <a:t>1. MAGYAR KIADÁSÚ SZAKMAI FOLYÓIRATOK</a:t>
            </a:r>
            <a:endParaRPr b="0" lang="en-US" sz="3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49EDA-7827-4BE5-82EF-F6D6312C608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91722EC6-8080-4C7F-8340-35C8A484F0C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28440" y="-3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b48f"/>
                </a:solidFill>
                <a:latin typeface="Arial Unicode MS"/>
              </a:rPr>
              <a:t>ACTA OECONOMICA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14600" y="1752480"/>
            <a:ext cx="6400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b48f"/>
                </a:solidFill>
                <a:latin typeface="Arial Unicode MS"/>
              </a:rPr>
              <a:t>Közreadó: </a:t>
            </a:r>
            <a:r>
              <a:rPr b="1" lang="hu-HU" sz="1800" spc="-1" strike="noStrike">
                <a:solidFill>
                  <a:srgbClr val="ffffff"/>
                </a:solidFill>
                <a:latin typeface="Arial Unicode MS"/>
              </a:rPr>
              <a:t>MTAK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b48f"/>
                </a:solidFill>
                <a:latin typeface="Arial Unicode MS"/>
              </a:rPr>
              <a:t>A folyóirat profilja:</a:t>
            </a:r>
            <a:r>
              <a:rPr b="1" lang="hu-HU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 Unicode MS"/>
              </a:rPr>
              <a:t>a közép-európai és magyarországi gazdaságfejlődés, 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 Unicode MS"/>
              </a:rPr>
              <a:t>az átalakulás folyamatának elméleti és általános kérdései, 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 Unicode MS"/>
              </a:rPr>
              <a:t>gazdaságpolitika, 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 Unicode MS"/>
              </a:rPr>
              <a:t>ökonometria és matematikai gazdaságtan, 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 Unicode MS"/>
              </a:rPr>
              <a:t>világgazdaságtan, 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 Unicode MS"/>
              </a:rPr>
              <a:t>európai integráció, 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 Unicode MS"/>
              </a:rPr>
              <a:t>munkagazdaságtan, 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 Unicode MS"/>
              </a:rPr>
              <a:t>ipargazdaságtan és iparfejlődés, 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 Unicode MS"/>
              </a:rPr>
              <a:t>pénzügyek,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 Unicode MS"/>
              </a:rPr>
              <a:t>üzleti gazdaságtan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b48f"/>
                </a:solidFill>
                <a:latin typeface="Arial Unicode MS"/>
              </a:rPr>
              <a:t>Nyelv:</a:t>
            </a:r>
            <a:r>
              <a:rPr b="1" lang="hu-HU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 Unicode MS"/>
              </a:rPr>
              <a:t>angol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b48f"/>
                </a:solidFill>
                <a:latin typeface="Arial Unicode MS"/>
              </a:rPr>
              <a:t>Alapítás éve:</a:t>
            </a:r>
            <a:r>
              <a:rPr b="1" lang="hu-HU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 Unicode MS"/>
              </a:rPr>
              <a:t>1966. (évi 4 szám)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b48f"/>
                </a:solidFill>
                <a:latin typeface="Arial Unicode MS"/>
              </a:rPr>
              <a:t>Online elérhetősége:</a:t>
            </a:r>
            <a:r>
              <a:rPr b="0" lang="hu-HU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hu-HU" sz="1800" spc="-1" strike="noStrike" u="sng">
                <a:solidFill>
                  <a:srgbClr val="ccccff"/>
                </a:solidFill>
                <a:uFillTx/>
                <a:latin typeface="Arial Unicode MS"/>
                <a:hlinkClick r:id="rId1"/>
              </a:rPr>
              <a:t>http://www.akademiai.com/content/119704/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828800" cy="2590560"/>
          </a:xfrm>
          <a:prstGeom prst="rect">
            <a:avLst/>
          </a:prstGeom>
          <a:ln w="38160">
            <a:solidFill>
              <a:srgbClr val="f59787"/>
            </a:solidFill>
            <a:miter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0" y="2209680"/>
            <a:ext cx="1828800" cy="2590920"/>
          </a:xfrm>
          <a:prstGeom prst="rect">
            <a:avLst/>
          </a:prstGeom>
          <a:ln w="38160">
            <a:solidFill>
              <a:srgbClr val="f59787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4B0F-1C9B-4F3F-B4DF-B275F6BCE41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AEBF60-400B-4582-A995-08B65E905F3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8915400" cy="6705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62D5-2D6D-4BB1-A458-4712D5729720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D61F61-B854-4D1F-A064-A31F380239F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b48f"/>
                </a:solidFill>
                <a:latin typeface="Arial Unicode MS"/>
              </a:rPr>
              <a:t>COMPETITIO</a:t>
            </a:r>
            <a:r>
              <a:rPr b="0" lang="en-US" sz="36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b48f"/>
                </a:solidFill>
                <a:latin typeface="Arial Unicode MS"/>
              </a:rPr>
              <a:t>Közreadó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: Debreceni Egyetem Közgazdaság- és Gazdaságtudományi Kara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b48f"/>
                </a:solidFill>
                <a:latin typeface="Arial Unicode MS"/>
              </a:rPr>
              <a:t>A folyóirat profilja: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a karon folyó kutatási eredmények közzététele, 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doktorandusz hallgatók munkáinak tudományos publikációs lehetőséget biztosítson. 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neves külső szakemberek publikációi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nemzetközi gazdasági témák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elméleti közgazdaságtan 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b48f"/>
                </a:solidFill>
                <a:latin typeface="Arial Unicode MS"/>
              </a:rPr>
              <a:t>Nyelv: 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 magyar, angol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b48f"/>
                </a:solidFill>
                <a:latin typeface="Arial Unicode MS"/>
              </a:rPr>
              <a:t>Alapítás éve: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 2002. (évi 2 szám)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b48f"/>
                </a:solidFill>
                <a:latin typeface="Arial Unicode MS"/>
              </a:rPr>
              <a:t>Online elérhetősége: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http://www.econ.unideb.hu/tudomany/competitio-folyoira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5DBB-0654-42BE-A2F2-57CEA33BD22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85D6F8-70B3-4F3A-AD5F-0DFF2BBDA2B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b48f"/>
                </a:solidFill>
                <a:latin typeface="Arial Unicode MS"/>
              </a:rPr>
              <a:t>FEJLESZTÉS ÉS FINANSZÍROZÁS=</a:t>
            </a:r>
            <a:br>
              <a:rPr sz="3200"/>
            </a:br>
            <a:r>
              <a:rPr b="1" lang="en-US" sz="3200" spc="-1" strike="noStrike">
                <a:solidFill>
                  <a:srgbClr val="ffb48f"/>
                </a:solidFill>
                <a:latin typeface="Arial Unicode MS"/>
              </a:rPr>
              <a:t> </a:t>
            </a:r>
            <a:r>
              <a:rPr b="1" lang="en-US" sz="3200" spc="-1" strike="noStrike">
                <a:solidFill>
                  <a:srgbClr val="ffb48f"/>
                </a:solidFill>
                <a:latin typeface="Arial Unicode MS"/>
              </a:rPr>
              <a:t>DEVELOPMENT AND FINANCE</a:t>
            </a:r>
            <a:br>
              <a:rPr sz="3200"/>
            </a:br>
            <a:r>
              <a:rPr b="1" lang="en-US" sz="3200" spc="-1" strike="noStrike">
                <a:solidFill>
                  <a:srgbClr val="ffb48f"/>
                </a:solidFill>
                <a:latin typeface="Arial Unicode MS"/>
              </a:rPr>
              <a:t>(angol és magyar nyelven is megjelenik)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686800" cy="495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C2F7-E45C-4F23-97B3-55EE422DE7AE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5FA738-A08E-4719-8C8B-4C62292B5F7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b48f"/>
                </a:solidFill>
                <a:latin typeface="Arial Unicode MS"/>
              </a:rPr>
              <a:t>FEJLESZTÉS ÉS FINANSZÍROZÁS=</a:t>
            </a:r>
            <a:br>
              <a:rPr sz="2800"/>
            </a:br>
            <a:r>
              <a:rPr b="1" lang="en-US" sz="2800" spc="-1" strike="noStrike">
                <a:solidFill>
                  <a:srgbClr val="ffb48f"/>
                </a:solidFill>
                <a:latin typeface="Arial Unicode MS"/>
              </a:rPr>
              <a:t> </a:t>
            </a:r>
            <a:r>
              <a:rPr b="1" lang="en-US" sz="2800" spc="-1" strike="noStrike">
                <a:solidFill>
                  <a:srgbClr val="ffb48f"/>
                </a:solidFill>
                <a:latin typeface="Arial Unicode MS"/>
              </a:rPr>
              <a:t>DEVELOPMENT AND FINANCE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b48f"/>
                </a:solidFill>
                <a:latin typeface="Arial Unicode MS"/>
              </a:rPr>
              <a:t>A folyóirat profilja:</a:t>
            </a:r>
            <a:r>
              <a:rPr b="0" lang="hu-HU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Unicode MS"/>
              </a:rPr>
              <a:t>XXI. század elején felmerülő gazdasági kérdések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Unicode MS"/>
              </a:rPr>
              <a:t>tudományos és gyakorlati jelentőségű gazdasági-társadalmi kérdések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Unicode MS"/>
              </a:rPr>
              <a:t>gazdasági- és pénzügyi folyamatok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Unicode MS"/>
              </a:rPr>
              <a:t>makro- és mikrogazdasági elemzések 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Unicode MS"/>
              </a:rPr>
              <a:t>"economic review„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Unicode MS"/>
              </a:rPr>
              <a:t>"business review"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b48f"/>
                </a:solidFill>
                <a:latin typeface="Arial Unicode MS"/>
              </a:rPr>
              <a:t>Nyelv:</a:t>
            </a:r>
            <a:r>
              <a:rPr b="0" lang="hu-HU" sz="2800" spc="-1" strike="noStrike">
                <a:solidFill>
                  <a:srgbClr val="ffffff"/>
                </a:solidFill>
                <a:latin typeface="Arial Unicode MS"/>
              </a:rPr>
              <a:t> magyar, angol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b48f"/>
                </a:solidFill>
                <a:latin typeface="Arial Unicode MS"/>
              </a:rPr>
              <a:t>Alapítás éve:</a:t>
            </a:r>
            <a:r>
              <a:rPr b="0" lang="hu-HU" sz="2800" spc="-1" strike="noStrike">
                <a:solidFill>
                  <a:srgbClr val="ffffff"/>
                </a:solidFill>
                <a:latin typeface="Arial Unicode MS"/>
              </a:rPr>
              <a:t> 2003. (évi 4 szám)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b48f"/>
                </a:solidFill>
                <a:latin typeface="Arial Unicode MS"/>
              </a:rPr>
              <a:t>Online elérhetősége:</a:t>
            </a:r>
            <a:r>
              <a:rPr b="0" lang="hu-HU" sz="3200" spc="-1" strike="noStrike">
                <a:solidFill>
                  <a:srgbClr val="ffffff"/>
                </a:solidFill>
                <a:latin typeface="Arial Unicode MS"/>
              </a:rPr>
              <a:t>http://www.ffdf.hu/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DD65-5ACB-4E39-A2F3-00AB1AE931C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0F2719-FE49-42A1-A214-D6A4C1CD0BE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b48f"/>
                </a:solidFill>
                <a:latin typeface="Arial Unicode MS"/>
              </a:rPr>
              <a:t>KÖZGAZDASÁGI SZEMLE</a:t>
            </a:r>
            <a:r>
              <a:rPr b="0" lang="en-US" sz="36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057400" y="1066680"/>
            <a:ext cx="68580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b48f"/>
                </a:solidFill>
                <a:latin typeface="Arial Unicode MS"/>
              </a:rPr>
              <a:t>Közreadó:</a:t>
            </a:r>
            <a:r>
              <a:rPr b="0" lang="hu-HU" sz="2800" spc="-1" strike="noStrike">
                <a:solidFill>
                  <a:srgbClr val="ffffff"/>
                </a:solidFill>
                <a:latin typeface="Arial Unicode MS"/>
              </a:rPr>
              <a:t> Közgazdasági Szemle Alapítvány 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b48f"/>
                </a:solidFill>
                <a:latin typeface="Arial Unicode MS"/>
              </a:rPr>
              <a:t>Támogatók:</a:t>
            </a:r>
            <a:r>
              <a:rPr b="0" lang="hu-HU" sz="2800" spc="-1" strike="noStrike">
                <a:solidFill>
                  <a:srgbClr val="ffffff"/>
                </a:solidFill>
                <a:latin typeface="Arial Unicode MS"/>
              </a:rPr>
              <a:t> MTA, MNB, K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&amp;</a:t>
            </a:r>
            <a:r>
              <a:rPr b="0" lang="hu-HU" sz="2800" spc="-1" strike="noStrike">
                <a:solidFill>
                  <a:srgbClr val="ffffff"/>
                </a:solidFill>
                <a:latin typeface="Arial Unicode MS"/>
              </a:rPr>
              <a:t>H Bank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b48f"/>
                </a:solidFill>
                <a:latin typeface="Arial Unicode MS"/>
              </a:rPr>
              <a:t>A folyóirat profilja:</a:t>
            </a:r>
            <a:r>
              <a:rPr b="0" lang="hu-HU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Unicode MS"/>
              </a:rPr>
              <a:t>elsősorban elméleti folyóirat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Unicode MS"/>
              </a:rPr>
              <a:t>tudomány fejlődéséhez való hozzájárulás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Unicode MS"/>
              </a:rPr>
              <a:t>a szellemi függetlenség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Unicode MS"/>
              </a:rPr>
              <a:t>a valóság tanulmányozása 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Unicode MS"/>
              </a:rPr>
              <a:t>az egymásnak ellentmondó nézetek ütköztetése</a:t>
            </a:r>
            <a:r>
              <a:rPr b="0" lang="hu-HU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b48f"/>
                </a:solidFill>
                <a:latin typeface="Arial Unicode MS"/>
              </a:rPr>
              <a:t>Nyelv:</a:t>
            </a:r>
            <a:r>
              <a:rPr b="0" lang="hu-HU" sz="2800" spc="-1" strike="noStrike">
                <a:solidFill>
                  <a:srgbClr val="ffffff"/>
                </a:solidFill>
                <a:latin typeface="Arial Unicode MS"/>
              </a:rPr>
              <a:t> magyar, angol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b48f"/>
                </a:solidFill>
                <a:latin typeface="Arial Unicode MS"/>
              </a:rPr>
              <a:t>Alapítás éve:</a:t>
            </a:r>
            <a:r>
              <a:rPr b="0" lang="hu-HU" sz="2800" spc="-1" strike="noStrike">
                <a:solidFill>
                  <a:srgbClr val="ffffff"/>
                </a:solidFill>
                <a:latin typeface="Arial Unicode MS"/>
              </a:rPr>
              <a:t> 1876. (évente 11 szám)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b48f"/>
                </a:solidFill>
                <a:latin typeface="Arial Unicode MS"/>
              </a:rPr>
              <a:t>Online elérhetősége:</a:t>
            </a:r>
            <a:r>
              <a:rPr b="0" lang="hu-HU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Arial Unicode MS"/>
              </a:rPr>
              <a:t>http://www.kszemle.hu/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03" name="" descr="Közgazdasági Szemle legfrissebb szá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33520"/>
            <a:ext cx="1571760" cy="2247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Közgazdasági Szemle legfrissebb szá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1828800"/>
            <a:ext cx="1571760" cy="22478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Közgazdasági Szemle legfrissebb szám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33520" y="3657600"/>
            <a:ext cx="1571400" cy="2247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79B9-90CB-4D69-B686-6871BD14963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5C696D-4ED0-4FED-A038-99D657F4722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76720" y="-3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b48f"/>
                </a:solidFill>
                <a:latin typeface="Arial Unicode MS"/>
              </a:rPr>
              <a:t>KÜLGAZDASÁG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133360" y="1447920"/>
            <a:ext cx="70102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8082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fb48f"/>
                </a:solidFill>
                <a:latin typeface="Arial Unicode MS"/>
              </a:rPr>
              <a:t>Közreadó</a:t>
            </a:r>
            <a:r>
              <a:rPr b="0" lang="hu-HU" sz="1900" spc="-1" strike="noStrike">
                <a:solidFill>
                  <a:srgbClr val="ffffff"/>
                </a:solidFill>
                <a:latin typeface="Arial Unicode MS"/>
              </a:rPr>
              <a:t>: Konjunktúra Kutatási Alapítvány </a:t>
            </a:r>
            <a:endParaRPr b="0" lang="en-US" sz="1900" spc="-1" strike="noStrike">
              <a:solidFill>
                <a:srgbClr val="ffffff"/>
              </a:solidFill>
              <a:latin typeface="Arial Unicode MS"/>
            </a:endParaRPr>
          </a:p>
          <a:p>
            <a:pPr lvl="1" marL="8082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fb48f"/>
                </a:solidFill>
                <a:latin typeface="Arial Unicode MS"/>
              </a:rPr>
              <a:t>A folyóirat profilja</a:t>
            </a:r>
            <a:r>
              <a:rPr b="0" lang="hu-HU" sz="1900" spc="-1" strike="noStrike">
                <a:solidFill>
                  <a:srgbClr val="ffb48f"/>
                </a:solidFill>
                <a:latin typeface="Arial Unicode MS"/>
              </a:rPr>
              <a:t>:</a:t>
            </a:r>
            <a:endParaRPr b="0" lang="en-US" sz="1900" spc="-1" strike="noStrike">
              <a:solidFill>
                <a:srgbClr val="ffffff"/>
              </a:solidFill>
              <a:latin typeface="Arial Unicode MS"/>
            </a:endParaRPr>
          </a:p>
          <a:p>
            <a:pPr lvl="2" marL="12384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ffffff"/>
                </a:solidFill>
                <a:latin typeface="Arial Unicode MS"/>
              </a:rPr>
              <a:t>a közgazdaságtudomány és más társadalomtudományi diszciplínák (szociológia, politikatudomány, nemzetközi kapcsolatok) </a:t>
            </a:r>
            <a:endParaRPr b="0" lang="en-US" sz="1900" spc="-1" strike="noStrike">
              <a:solidFill>
                <a:srgbClr val="ffffff"/>
              </a:solidFill>
              <a:latin typeface="Arial Unicode MS"/>
            </a:endParaRPr>
          </a:p>
          <a:p>
            <a:pPr lvl="2" marL="12384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ffffff"/>
                </a:solidFill>
                <a:latin typeface="Arial Unicode MS"/>
              </a:rPr>
              <a:t>alkalmazott közgazdaságtan, </a:t>
            </a:r>
            <a:endParaRPr b="0" lang="en-US" sz="1900" spc="-1" strike="noStrike">
              <a:solidFill>
                <a:srgbClr val="ffffff"/>
              </a:solidFill>
              <a:latin typeface="Arial Unicode MS"/>
            </a:endParaRPr>
          </a:p>
          <a:p>
            <a:pPr lvl="2" marL="12384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ffffff"/>
                </a:solidFill>
                <a:latin typeface="Arial Unicode MS"/>
              </a:rPr>
              <a:t>gazdaságpolitika, </a:t>
            </a:r>
            <a:endParaRPr b="0" lang="en-US" sz="1900" spc="-1" strike="noStrike">
              <a:solidFill>
                <a:srgbClr val="ffffff"/>
              </a:solidFill>
              <a:latin typeface="Arial Unicode MS"/>
            </a:endParaRPr>
          </a:p>
          <a:p>
            <a:pPr lvl="2" marL="12384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ffffff"/>
                </a:solidFill>
                <a:latin typeface="Arial Unicode MS"/>
              </a:rPr>
              <a:t>kelet-közép-európai gazdasági és társadalmi átalakulás,</a:t>
            </a:r>
            <a:endParaRPr b="0" lang="en-US" sz="1900" spc="-1" strike="noStrike">
              <a:solidFill>
                <a:srgbClr val="ffffff"/>
              </a:solidFill>
              <a:latin typeface="Arial Unicode MS"/>
            </a:endParaRPr>
          </a:p>
          <a:p>
            <a:pPr lvl="2" marL="12384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ffffff"/>
                </a:solidFill>
                <a:latin typeface="Arial Unicode MS"/>
              </a:rPr>
              <a:t>globalizáció és transznacionalizáció, </a:t>
            </a:r>
            <a:endParaRPr b="0" lang="en-US" sz="1900" spc="-1" strike="noStrike">
              <a:solidFill>
                <a:srgbClr val="ffffff"/>
              </a:solidFill>
              <a:latin typeface="Arial Unicode MS"/>
            </a:endParaRPr>
          </a:p>
          <a:p>
            <a:pPr lvl="2" marL="12384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ffffff"/>
                </a:solidFill>
                <a:latin typeface="Arial Unicode MS"/>
              </a:rPr>
              <a:t>nemzetközi és regionális összehasonlító tanulmányok</a:t>
            </a:r>
            <a:endParaRPr b="0" lang="en-US" sz="1900" spc="-1" strike="noStrike">
              <a:solidFill>
                <a:srgbClr val="ffffff"/>
              </a:solidFill>
              <a:latin typeface="Arial Unicode MS"/>
            </a:endParaRPr>
          </a:p>
          <a:p>
            <a:pPr lvl="2" marL="12384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ffffff"/>
                </a:solidFill>
                <a:latin typeface="Arial Unicode MS"/>
              </a:rPr>
              <a:t>a lap </a:t>
            </a:r>
            <a:r>
              <a:rPr b="1" lang="hu-HU" sz="1900" spc="-1" strike="noStrike">
                <a:solidFill>
                  <a:srgbClr val="ffb48f"/>
                </a:solidFill>
                <a:latin typeface="Arial Unicode MS"/>
              </a:rPr>
              <a:t>Jogi Melléklete</a:t>
            </a:r>
            <a:r>
              <a:rPr b="0" lang="hu-HU" sz="1900" spc="-1" strike="noStrike">
                <a:solidFill>
                  <a:srgbClr val="ffffff"/>
                </a:solidFill>
                <a:latin typeface="Arial Unicode MS"/>
              </a:rPr>
              <a:t> a hazai és külföldi gazdasági jog tudományos aspektusaival, változásaival, valamint új rendelkezéseivel foglalkozik.</a:t>
            </a:r>
            <a:endParaRPr b="0" lang="en-US" sz="1900" spc="-1" strike="noStrike">
              <a:solidFill>
                <a:srgbClr val="ffffff"/>
              </a:solidFill>
              <a:latin typeface="Arial Unicode MS"/>
            </a:endParaRPr>
          </a:p>
          <a:p>
            <a:pPr lvl="1" marL="8082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fb48f"/>
                </a:solidFill>
                <a:latin typeface="Arial Unicode MS"/>
              </a:rPr>
              <a:t>Nyelv:</a:t>
            </a:r>
            <a:r>
              <a:rPr b="0" lang="hu-HU" sz="1900" spc="-1" strike="noStrike">
                <a:solidFill>
                  <a:srgbClr val="ffffff"/>
                </a:solidFill>
                <a:latin typeface="Arial Unicode MS"/>
              </a:rPr>
              <a:t> magyar</a:t>
            </a:r>
            <a:endParaRPr b="0" lang="en-US" sz="1900" spc="-1" strike="noStrike">
              <a:solidFill>
                <a:srgbClr val="ffffff"/>
              </a:solidFill>
              <a:latin typeface="Arial Unicode MS"/>
            </a:endParaRPr>
          </a:p>
          <a:p>
            <a:pPr lvl="1" marL="8082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fb48f"/>
                </a:solidFill>
                <a:latin typeface="Arial Unicode MS"/>
              </a:rPr>
              <a:t>Alapítás éve:</a:t>
            </a:r>
            <a:r>
              <a:rPr b="0" lang="hu-HU" sz="1900" spc="-1" strike="noStrike">
                <a:solidFill>
                  <a:srgbClr val="ffffff"/>
                </a:solidFill>
                <a:latin typeface="Arial Unicode MS"/>
              </a:rPr>
              <a:t> 1972. (évente 6 szám)</a:t>
            </a:r>
            <a:endParaRPr b="0" lang="en-US" sz="1900" spc="-1" strike="noStrike">
              <a:solidFill>
                <a:srgbClr val="ffffff"/>
              </a:solidFill>
              <a:latin typeface="Arial Unicode MS"/>
            </a:endParaRPr>
          </a:p>
          <a:p>
            <a:pPr lvl="1" marL="8082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fb48f"/>
                </a:solidFill>
                <a:latin typeface="Arial Unicode MS"/>
              </a:rPr>
              <a:t>Online elérhetősége</a:t>
            </a:r>
            <a:r>
              <a:rPr b="1" lang="hu-HU" sz="1900" spc="-1" strike="noStrike">
                <a:solidFill>
                  <a:srgbClr val="ffffff"/>
                </a:solidFill>
                <a:latin typeface="Arial Unicode MS"/>
              </a:rPr>
              <a:t>:</a:t>
            </a:r>
            <a:r>
              <a:rPr b="0" lang="hu-HU" sz="1900" spc="-1" strike="noStrike">
                <a:solidFill>
                  <a:srgbClr val="ffffff"/>
                </a:solidFill>
                <a:latin typeface="Arial Unicode MS"/>
              </a:rPr>
              <a:t> http://www.kopintalapitvany.hu/05.html#03</a:t>
            </a:r>
            <a:endParaRPr b="0" lang="en-US" sz="1900" spc="-1" strike="noStrike">
              <a:solidFill>
                <a:srgbClr val="ffffff"/>
              </a:solidFill>
              <a:latin typeface="Arial Unicode MS"/>
            </a:endParaRPr>
          </a:p>
          <a:p>
            <a:pPr lvl="1" marL="8082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81240" cy="314316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2181240" cy="314316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57200" y="1600200"/>
            <a:ext cx="2181240" cy="314316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24F9-AC76-4B4A-9C9C-B4B8A75A1EC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2DFD44-0ED4-41F8-AFBC-55CEB9328EA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ipos Anna Magdolna</cp:lastModifiedBy>
  <dcterms:modified xsi:type="dcterms:W3CDTF">2013-02-19T10:29:34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